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7.gif" ContentType="image/gif"/>
  <Override PartName="/ppt/media/image5.jpeg" ContentType="image/jpeg"/>
  <Override PartName="/ppt/media/image17.png" ContentType="image/png"/>
  <Override PartName="/ppt/media/image10.wmf" ContentType="image/x-wmf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8.gif" ContentType="image/gif"/>
  <Override PartName="/ppt/media/image19.wmf" ContentType="image/x-wmf"/>
  <Override PartName="/ppt/media/image18.jpeg" ContentType="image/jpeg"/>
  <Override PartName="/ppt/media/image9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0437-044C-44EB-8ECB-2857BF110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4376-FDD3-43D3-9C91-1D9A484DE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920C5-5836-4104-9B28-C9E3D1937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E609-AEFD-4047-A68E-181AB0A6D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48A04-9626-42A2-86BE-FD1CD6E8CC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6782E-5612-49A3-B8A9-A3608C75FF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73894-C23F-4CAE-91FF-E7B7487734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74743-E43D-4018-A1F8-79DD46231E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92A86-E40A-4531-9854-4CA7144C51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3EA4B-E0C4-41DA-B2CA-6399040E89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EEDBC-3A7A-4751-B523-040CB10763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9516-7F13-4EA8-8A86-783F19AFF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38487-6147-4AED-B2D4-0671C12BDD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B54D1-1DAE-494A-A41E-DF49580283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D753F-E5A2-4A01-8041-DD07F534CA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AB81-D9C4-4A3A-B77A-EA0766B2B9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A1D46-2AD7-42C7-A8A9-39852F28A6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2C55-410F-4826-9419-EF7E14FFF1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614-E814-404E-818B-2225944EF0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5AD-B7DF-4504-9FBB-3CF668A484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C23-E91D-4D91-9EEF-0AE530AB85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928F-5F1F-4B15-B728-EA00783ADD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8E44-7024-488D-AB59-4B72802B1E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D08E-BE41-42F2-9F83-8E65D0043E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3E5-327A-4FD9-9449-29DC7E236A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5A63-9271-48E9-98B1-F16845469E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2D7-56F1-4B7B-A68C-BC88FADD6C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308-EB54-4D01-97A6-92144E8CE6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D08-E9FD-483A-A0EF-1C9F67156F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94D-BEBF-4927-A115-2093701C4A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535D1-D25A-493F-9719-A245B62550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1E865-E8DD-41E4-A651-8389F79DB6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90130-E943-4EC5-BDDD-9ED14FBAF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3303-C273-4314-A0A1-B04CE046AC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B032E-3A26-4CAA-810D-FBF1E2E99E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285EE-4BDA-4379-96F1-4E3F15BCB4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DE6DA-C31D-47A7-95EA-7DEFFBAEE9C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4C2D0-7EEE-4FFE-8661-50A441F349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16475-6114-4D93-9BCC-AF0DD63274A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F0C30-3673-479F-8EBC-E239C1A4D9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ED1C8-8916-4869-B346-0A75036451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330B9-B42B-479C-940B-93079E6869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D385A-642E-475C-A715-058DA447003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5E026-BF74-4A90-B9D5-862A1DA00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F7CAC-F82F-4C1E-A07A-797EDD60E7D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9743A-B745-4095-BCBF-77B1AD5D254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902BC-77E8-4975-9E92-DBAB511AE77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C0E3C-5AAF-449D-B661-5887F6C5686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AE965-036D-4C50-8661-5DFE31D4B22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62455-C232-42D9-A6BF-58E33B165AC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EDBE9-0AC1-46AD-9794-3E8EEC56679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054A3-CF7B-4C4F-9D23-369D49557C4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A2D1C-77F1-4B75-AB9E-7A9D2CAAE87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5EA62-7DE0-4D8E-9037-1867A433D2C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C7941-2DA0-4F3E-9CBB-96733C9CF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3270-6427-41DB-9B75-51B3E2675DB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F4D0C-4971-4DE8-A7FD-6CDB1D8FFFD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F21D-D077-4035-A3AA-61BE964E1C2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CA8A-CA49-4958-8B89-7757B4F24B1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1188-F58E-40D3-B999-185E167CC52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0505-AC41-4583-A72F-5D7C81E88DB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2FE7-8169-4D0E-B128-18CF82DB067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ACC2-82EF-4953-9DED-0579539405A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1586-F26D-4A4F-A983-1E803A70EC8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6D30-9A9A-43ED-A682-E176A150ED3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59D4-5C88-4B39-BB10-90785CC00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2CB5-EA05-48AC-9B19-2BC0399264B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A705-12E1-4696-A7CB-4C3CFF58D4B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249C-E1A1-40EF-878D-1D9753C99EE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80D0-37D1-440D-90DA-EC30B3F2A66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9B3F6C-75D3-49FF-B25F-35F6994C21B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E46E1C-18F0-4DA1-BBA8-C882B286095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A7516D-E359-4650-A899-518365801BD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85791A-61C6-433E-A069-A3D6485B21D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E37F66-0DCB-4EF6-B5F2-F2991619D61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1AA0A5-910B-4F5D-8E2A-7914C939832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40B941-8E3C-47AF-8A52-923578268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030F-080B-4442-8CA3-67984E9AEA4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661B46-5B89-4F50-91CE-4DE47C1C90C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E70560-64CB-477E-81C0-54B580D92FD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B769C2-E099-41F8-978E-3122C8ECF01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7FE6CD-E4FE-49F5-A1B1-7EFA66E3800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924FA9-D1FC-4580-B3B9-964AE61DA2A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1FA4-C370-411C-B1E7-9A182811D2B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A251CF-D75E-4289-873A-A4FE8CB76C36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9097920" y="22212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1146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2"/>
          </p:nvPr>
        </p:nvSpPr>
        <p:spPr>
          <a:xfrm>
            <a:off x="1325520" y="4929120"/>
            <a:ext cx="571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B1984A-3AF4-40B8-89DC-0F212C9BC8FE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2B1DFE-A09E-4501-AC93-22E2E7128DA6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9096480" y="21744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1146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4"/>
          </p:nvPr>
        </p:nvSpPr>
        <p:spPr>
          <a:xfrm>
            <a:off x="1339560" y="4929120"/>
            <a:ext cx="5713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808185-58DC-417F-919E-2FE487D62738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1EFFB8-E1F7-4369-9118-3A9718DFD8F9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9A4AEF-28C7-47D9-8944-8C518A858D75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7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A6B7D3-D1CB-4761-8EF4-CD890C922180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539640" y="642960"/>
            <a:ext cx="7920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ОЕКТ НА ТЕМУ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«НЕГАТИВНОЕ ВЛИЯНИЕ ШУМА Н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ДОРОВЬЕ ЧЕЛОВЕ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4859280" y="3240000"/>
            <a:ext cx="3600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ыполнили 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Иноземцева Т.Н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Фролова Н.А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-360360" y="8810640"/>
            <a:ext cx="2801880" cy="1449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574560" y="2824200"/>
            <a:ext cx="4286520" cy="3295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5759280" y="711360"/>
            <a:ext cx="2802240" cy="14493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"/>
          <p:cNvSpPr/>
          <p:nvPr/>
        </p:nvSpPr>
        <p:spPr>
          <a:xfrm>
            <a:off x="452520" y="314280"/>
            <a:ext cx="746748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Рекомендации </a:t>
            </a:r>
            <a:br>
              <a:rPr sz="2600"/>
            </a:b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по ослаблению негативного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влияния шума на организм челове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457200" y="1979640"/>
            <a:ext cx="746748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Ограничить ежедневное прослушивание громкой музыки, телевизионных передач, работу за компьютером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 выполнении шумной работы, через каждый час делать 10 минутный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	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перерыв или прослушивать успокаивающую музык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Следить за разговорной речью: не кричать, не повышать голос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егулярное медицинское обследовани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садка деревьев вокруг здани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дпочтение отдавать отдыху на природе, а не дискотек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менение средств  защиты от шум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наушники из шумоизолирующих материал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тивошумные вкладыш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2300dc"/>
              </a:buClr>
              <a:buFont typeface="Wingdings" charset="2"/>
              <a:buChar char="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Информационная работа по профилактике влияния шума на здоровье обучающихся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720720" y="720720"/>
            <a:ext cx="73803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ЫВО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В результате ограничения прослушивания громкой музыки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боты        за компьютером улучшился сон у 30% учащихс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2.  Повысилось внимание и активизировалась учебная деятельность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3. Снизилась доля конфликтов между учащимися на 20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4. В течение зимних каникул 60% учащихся предпочли ежедневное    катание на коньках и лыжах ежедневному сидению у компьютера и    телевизора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5. Провели беседу о негативном влиянии шума на учеников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пагандировали здоровый образ жизни в 4 начальных класс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7. После медицинского обследования 10%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евятиклассников получили рекоменд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 лечению и восстановлению слух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232000" cy="15112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57200" y="272880"/>
            <a:ext cx="74660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ЧЕЛОВЕК 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457200" y="1600200"/>
            <a:ext cx="746604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, столь мало уважаемое в юных летах, делается в летах зрелости истинным благом; самое чувство жизни бывает гораздо милее тогда, когда уже пролетела ее быстрая половина.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М.Карамз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 никогда не может потерять своей цены в глазах человека, потому что и в довольстве и в роскоши плохо жить без здоровья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Г.Черныше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Берегите уши!  Будьте здоровы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Удачи</a:t>
            </a:r>
            <a:r>
              <a:rPr b="0" lang="ru-RU" sz="2400" spc="-1" strike="noStrike">
                <a:solidFill>
                  <a:srgbClr val="3333cc"/>
                </a:solidFill>
                <a:latin typeface="Century Schoolbook"/>
                <a:ea typeface="Arial Unicode MS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539640" y="4859280"/>
            <a:ext cx="1619280" cy="1440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"/>
          <p:cNvPicPr/>
          <p:nvPr/>
        </p:nvPicPr>
        <p:blipFill>
          <a:blip r:embed="rId2"/>
          <a:stretch/>
        </p:blipFill>
        <p:spPr>
          <a:xfrm>
            <a:off x="6659640" y="539640"/>
            <a:ext cx="1800000" cy="1440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457200" y="720720"/>
            <a:ext cx="746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Используемая литератур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457200" y="1413000"/>
            <a:ext cx="746748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пользование коммуникативных средств при выполнении проектов как фактор формирования социальной компетентности педагога и учащихся. -Саратов: ИЦ «РАТА», 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ОБЖ, 9 класс, поурочное планирование.-Волгоград: Учитель,2007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Материалы Интернет с сайт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mhtv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file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//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еливерстова Д.Н., Селиверстова В.В., Селиверстов В.Н.Формула здоровья.- Волгоград: Зацарицынский вестник, 199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льичев А.А. Популярная энциклопедия для выживания подростков.-М:ЭКСМО-Пресс,20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олесов Д.В. Учебник «Биология», 8 класс,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6673680" y="4881600"/>
            <a:ext cx="1785960" cy="1417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671400" y="635040"/>
            <a:ext cx="77900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539640" y="4316400"/>
            <a:ext cx="3421080" cy="19843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2"/>
          <a:stretch/>
        </p:blipFill>
        <p:spPr>
          <a:xfrm>
            <a:off x="539640" y="2160720"/>
            <a:ext cx="3419640" cy="19796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4"/>
          <p:cNvSpPr/>
          <p:nvPr/>
        </p:nvSpPr>
        <p:spPr>
          <a:xfrm>
            <a:off x="720720" y="720720"/>
            <a:ext cx="755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Обоснование выбора темы про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824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основание выбора темы проекта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4319640" y="2340000"/>
            <a:ext cx="414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гативное влияние шума сказывается на органах слуха, сердечно-сосудистой системе, на работе печени, к истощению и перенапряжению нервных клеток, к изменениям в стволовых клетках. Ослабленные клетки нервной системы не могут достаточно четко координировать работу различных систем организма. Различные виды шумов приводят к развитию шумовой болезни.  Проведенные научные исследования показали, что у людей, находящихся в шумной обстановке,  в результате систематического воздействия шума, производительность труда падает на 10% и увеличивается заболеваемость на 30%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Picture 7" descr=""/>
          <p:cNvPicPr/>
          <p:nvPr/>
        </p:nvPicPr>
        <p:blipFill>
          <a:blip r:embed="rId3"/>
          <a:stretch/>
        </p:blipFill>
        <p:spPr>
          <a:xfrm>
            <a:off x="7020000" y="1260360"/>
            <a:ext cx="1218960" cy="1171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457200" y="274680"/>
            <a:ext cx="641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ЦЕЛЬ ПРОЕКТА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азработа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екомендации по защите от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негативного воздействия шума   на организм человека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6200" cy="2357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"/>
          <p:cNvPicPr/>
          <p:nvPr/>
        </p:nvPicPr>
        <p:blipFill>
          <a:blip r:embed="rId2"/>
          <a:stretch/>
        </p:blipFill>
        <p:spPr>
          <a:xfrm>
            <a:off x="1779480" y="4319640"/>
            <a:ext cx="2000520" cy="1928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АДАЧ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395280" y="1628640"/>
            <a:ext cx="8115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Выяснить, что такое шу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Выявить источники шума в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окружающей сре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Выявить опасный предел шума д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осприятия чело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Рекомендовать способы защиты о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шу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6300720" y="1440000"/>
            <a:ext cx="1643040" cy="1714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619280" y="189000"/>
            <a:ext cx="70358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РИТЕРИ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35080" y="1481040"/>
            <a:ext cx="900108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     Красоч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     Доступ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изложения материал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     Информатив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     Достовер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480960" y="5040360"/>
            <a:ext cx="1859040" cy="1463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2"/>
          <a:stretch/>
        </p:blipFill>
        <p:spPr>
          <a:xfrm>
            <a:off x="5425920" y="4500720"/>
            <a:ext cx="3033720" cy="1800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3"/>
          <a:stretch/>
        </p:blipFill>
        <p:spPr>
          <a:xfrm>
            <a:off x="5265720" y="1265400"/>
            <a:ext cx="3193920" cy="1795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428760" y="735120"/>
            <a:ext cx="792000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то такое шум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беспорядочное сочетание различ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по</a:t>
            </a: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силе и частоте зву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громкие звуки, слившиеся 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естройное    звуча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-явление всепроникающее и негатив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воздействующее на организм человека 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совокупности с другими фактор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(вредными       примесями в воздухе и вод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электромагнитным   излучением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апряженностью труда и т.д.).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6450120" y="720720"/>
            <a:ext cx="2009520" cy="1079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5219640" y="4140360"/>
            <a:ext cx="3060720" cy="2160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2"/>
          <p:cNvSpPr/>
          <p:nvPr/>
        </p:nvSpPr>
        <p:spPr>
          <a:xfrm>
            <a:off x="539640" y="549360"/>
            <a:ext cx="76662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точники шу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Работа бытовых приборов: телевизор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агнитофон, стиральная машина, ради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ранспорт железнодорожны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авиационный,    автомобильны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Строительные работ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Природные явления: гром, цунам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землетрясение, обвал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узы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лест листв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пот, разговор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ечение воды из кран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Крики, визг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30320" y="1440000"/>
            <a:ext cx="40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900000" y="539640"/>
            <a:ext cx="7559640" cy="63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Физические характеристики шу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Уровень шума измеряется в единицах звукового давления — децибелах (дБ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Болевой порог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                                                        1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кетный двигатель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4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ая музыка                                                               12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робильная машина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1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сс, метро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Уровень шума, вредный для слуха                              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9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Товарный поезд(на расстоянии 33 м)                            8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ылесос (на  расстоянии 3м)                                            7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Автомобильное движение на автостраде                       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зговор                               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Шелест листвы                                                                  1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ий разговор в классе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Хлопанье в ладоши на представлении                           88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«Ура»- хором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Девчачий визг                                                                  127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357120" y="539640"/>
            <a:ext cx="7740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оздействие шума проявляе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260360" y="1357200"/>
            <a:ext cx="29955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луховой аппарат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нервную систему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ердечно-сосудистую систем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репродуктивную функцию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3357720" y="2500200"/>
            <a:ext cx="54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Человек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2571840" y="3143160"/>
            <a:ext cx="5759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тановит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Раздражительным, нервным, слабым,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забывчив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Тревожным, испуганным, плохо види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ухудшается  интеллектуальная деятельност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ыстро утомляем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иобрета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Гипертоническую болезн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ессонниц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еправильный обмен вещест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Снижается порог чувствительности нервных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клеток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539640" y="3351240"/>
            <a:ext cx="1981440" cy="20494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20:41:28Z</dcterms:created>
  <dc:creator>Ванек</dc:creator>
  <dc:description/>
  <dc:language>en-US</dc:language>
  <cp:lastModifiedBy>КарМаН</cp:lastModifiedBy>
  <dcterms:modified xsi:type="dcterms:W3CDTF">2011-08-23T12:14:27Z</dcterms:modified>
  <cp:revision>12</cp:revision>
  <dc:subject/>
  <dc:title>Проект на тему: «Негативное влияние шума на  здоровье человека»</dc:title>
</cp:coreProperties>
</file>